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B127-B974-45CF-AC89-84C86574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1A66-A860-49D2-A7A3-5000FE48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055E-7CA6-4916-BCEE-5BCBAC83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3764-8D3B-4D62-95A1-D5D64C11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76F4-95F5-4F65-95CF-9FDA6F49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8376-E16B-486B-84AA-2367ABEB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349A-4E88-4717-8F01-4320F740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E691-189F-4C83-9A70-7BEBBAA9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7C20-239F-4010-BE37-617AAC00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C2C0-3AF8-4A8C-AC73-2649D389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8D0A-6B8F-4514-BA9F-FF9115E2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7B7B-1599-44B6-81E3-8AB66680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95BE-2D55-4A48-A3D7-8D4B9BDD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4BFD-A8D8-475D-BF94-DCA29B1E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DB6B-7C19-422A-9E41-F6AF54DC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C15E-6FC3-463E-AF1E-DF127AF8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1DBD-D335-48DD-87E3-71B93983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9868-FDD7-4AD4-8A80-E3B5970F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001E-72B2-42BD-A047-91D00CCD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B880-4676-45C1-80C2-FF697343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ED9E-BA77-4EAB-80AE-3E07DD23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081-B556-47E6-AF03-8FA4EAA8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6B30-A760-48AA-8244-06494B57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3BF1-B645-4CF7-A98D-7524C11E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4909-906C-4131-BDD7-2EA76926B5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103D-00BA-4D39-92F8-83A8645175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Text Box 9"/>
          <p:cNvGrpSpPr/>
          <p:nvPr/>
        </p:nvGrpSpPr>
        <p:grpSpPr>
          <a:xfrm>
            <a:off x="476280" y="1384200"/>
            <a:ext cx="4913280" cy="1535040"/>
            <a:chOff x="476280" y="1384200"/>
            <a:chExt cx="4913280" cy="1535040"/>
          </a:xfrm>
        </p:grpSpPr>
        <p:pic>
          <p:nvPicPr>
            <p:cNvPr id="89" name="Text Box 9" descr=""/>
            <p:cNvPicPr/>
            <p:nvPr/>
          </p:nvPicPr>
          <p:blipFill>
            <a:blip r:embed="rId1"/>
            <a:stretch/>
          </p:blipFill>
          <p:spPr>
            <a:xfrm>
              <a:off x="476280" y="1384200"/>
              <a:ext cx="491328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33520" y="1523880"/>
              <a:ext cx="4800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Bellringer 4/27/2012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Text Box 22"/>
          <p:cNvSpPr/>
          <p:nvPr/>
        </p:nvSpPr>
        <p:spPr>
          <a:xfrm>
            <a:off x="228600" y="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nswer these questions in the fir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3 minutes of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304920" y="3962520"/>
            <a:ext cx="8153280" cy="2669400"/>
          </a:xfrm>
          <a:prstGeom prst="rect">
            <a:avLst/>
          </a:prstGeom>
          <a:gradFill rotWithShape="0">
            <a:gsLst>
              <a:gs pos="0">
                <a:srgbClr val="febaa8"/>
              </a:gs>
              <a:gs pos="100000">
                <a:srgbClr val="ffebe7"/>
              </a:gs>
            </a:gsLst>
            <a:lin ang="16200000"/>
          </a:gradFill>
          <a:ln w="9360">
            <a:solidFill>
              <a:srgbClr val="bc755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Arial"/>
              </a:rPr>
              <a:t>What are indulgences?  What was their purpos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Arial"/>
              </a:rPr>
              <a:t>Who started the Reformation?  What is the Reformation or what was formed during the Reformati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Arial"/>
              </a:rPr>
              <a:t>What were the three main points Martin Luther made when arguing against the teachings of the Roman Catholic Church?  (you can abbrevia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28" descr="wittenberg-door"/>
          <p:cNvPicPr/>
          <p:nvPr/>
        </p:nvPicPr>
        <p:blipFill>
          <a:blip r:embed="rId2"/>
          <a:stretch/>
        </p:blipFill>
        <p:spPr>
          <a:xfrm>
            <a:off x="5778360" y="255600"/>
            <a:ext cx="3273480" cy="3944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20:10:04Z</dcterms:created>
  <dc:creator>admin</dc:creator>
  <dc:description/>
  <dc:language>en-US</dc:language>
  <cp:lastModifiedBy>admin</cp:lastModifiedBy>
  <dcterms:modified xsi:type="dcterms:W3CDTF">2012-04-27T12:04:10Z</dcterms:modified>
  <cp:revision>37</cp:revision>
  <dc:subject/>
  <dc:title>Slide 1</dc:title>
</cp:coreProperties>
</file>